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8926-D22A-4288-824F-4A0FE305C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hell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eas availabl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floor common area [sitting areas, pool tables, shuffleboard, etc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rooms 2 and 3 [ tables &amp; chairs for board games] in Bayview will be the social gathering space. Each evening around 8:30 p.m. snacks and ice will be provid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n space in Mardon Lo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ie &amp; She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of fragile state of content knowledge for teaching by teachers with whom we and other steering team leads hav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focus on CKT-M; a new vision with a focus on the big ideas in Number and other Relevant Big Ideas that focus on PR; anc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 and continued need to support MoE’s sharpened focus on differentiating instruction through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year’s breakout sessions will now be interwoven throughout all sessions; these will support participants in their exploration of the big ideas and differentiating instruction through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 to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stigate interconnections among these critical learnings as enabled through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less speaking and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ing to expose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ding to provide appropriate scaffolding and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ic planning to embed student success indicators with framework for math camppp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networks within and across boards will continue to grow leadership across the provi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light of this year’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aching for Math GA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, a coaching dimension (specifically co-planning) will be embedded within the camppp.  This will provide participants with the opportunity to deepen their understanding of the big ideas and consider applications of DI through ques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 of Marian’s plenary – confirm with 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3B6A-D986-47D2-BA7F-A2F2F516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5F44-9106-453A-A783-1FA5D767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7598-95F7-4D12-AD0D-3448AB67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5643-DB78-4DDD-A54F-782E1FF4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4590-95B1-499D-97F7-A3709510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EF0F-8147-48F5-A012-6C149205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CA02-0236-4F9C-A8DA-98655509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9B1A-057E-4CC0-91AB-3871DC7E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8503-47A6-4270-BFA6-40C02744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95FD-74F0-4F2F-80C4-50414B9A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8624-DA22-4A6C-8C65-4F2BB275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8302-BF68-4556-97AE-EE63D368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76BD-E2C9-4659-955E-9D4B764E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1D68-0535-45A6-A5FE-5F89BC1F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62A7-233D-4687-97E6-722DC339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FAD0-1F65-4E20-8E5F-0C7605F3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ADBE-BD36-4790-BAC7-258DD1BA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85FB-3841-4990-BABA-3E64BC87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9B1E-1A09-45B2-B8CF-3B0513C7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3D18-641E-453F-8BC3-8550082B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1B6-F3B8-47BD-AAD7-B5891D9C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720B-3D9F-404C-A93F-9674724C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1A9D-1F7E-4062-91F6-B27E04AD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EF92-44B6-4C9E-BB29-98DF0EA6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2BEE-99E4-4D37-AA17-DA79824F15F0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0360" y="369720"/>
            <a:ext cx="6840720" cy="1429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3640" y="-2700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0C71-80CE-4F7A-945A-76E87F10B65C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gains-camppp.wikispaces.com/CAMPPP+2010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800360" y="838080"/>
            <a:ext cx="5545080" cy="4546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31640" y="5337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Book Antiqua"/>
                <a:ea typeface="Arial"/>
              </a:rPr>
              <a:t>Welcome Session</a:t>
            </a:r>
            <a:br>
              <a:rPr sz="4800"/>
            </a:br>
            <a:r>
              <a:rPr b="0" lang="en-US" sz="1800" spc="-1" strike="noStrike">
                <a:solidFill>
                  <a:srgbClr val="0d469b"/>
                </a:solidFill>
                <a:latin typeface="Book Antiqua"/>
                <a:ea typeface="Arial"/>
              </a:rPr>
              <a:t>Monday August 16</a:t>
            </a:r>
            <a:r>
              <a:rPr b="0" lang="en-US" sz="1800" spc="-1" strike="noStrike" baseline="30000">
                <a:solidFill>
                  <a:srgbClr val="0d469b"/>
                </a:solidFill>
                <a:latin typeface="Book Antiqua"/>
                <a:ea typeface="Arial"/>
              </a:rPr>
              <a:t>th</a:t>
            </a:r>
            <a:r>
              <a:rPr b="0" lang="en-US" sz="1800" spc="-1" strike="noStrike">
                <a:solidFill>
                  <a:srgbClr val="0d469b"/>
                </a:solidFill>
                <a:latin typeface="Book Antiqua"/>
                <a:ea typeface="Arial"/>
              </a:rPr>
              <a:t>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lenary Presenter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Marian Small, Consultant and Aut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Program:  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916280"/>
            <a:ext cx="8388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cused Breakout Session Descriptions &amp; Speaker Biogra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-2: Proportional Reasoning: Laying the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-6: Proportional Reasoning: A Focus on Multiplicative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/8: Proportional Reasoning: A Focus on Ratio and Fractional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/10: Proportional Reasoning: A Focus on Proportional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/12: Proportional Reasoning: Building to More Complex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aders: Creating an Environment for Mathematical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76176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ocused Breakout Session Presenter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Lynd, Retired from Trillium Lakelands 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nnis Fleming, Literacy and Numeracy Secret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na Micomonaco, York Catholic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y Chaput, Wellington Catholic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e Davis, Halton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yce Tonner, Thames Valley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50560" y="76176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ocused Breakout Session Presenter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&amp;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Ford, Kawartha Pine Ridge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elle Lang, Waterloo Region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bie Wines, Trillium Lakelands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250560" y="76176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ocused Breakout Session Presenter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&amp;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 Alves, Peel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ia Ellison, Halton Catholic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sh Steele, Simcoe County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250560" y="76176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ocused Breakout Session Presenter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&amp;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rley Dalyrmple, York Region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isa Suurtamm, DSB of Niag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en Timson, York Region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50560" y="76176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ocused Breakout Session Presenter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ie Quadrini, York Catholic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lley Yearley, Trillium Lakelands D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50560" y="761760"/>
            <a:ext cx="889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Focused Breakout Session Presenter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Organizer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ye Appleby, Retired – Lond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rna Ingalls, Ministry of Education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ie Quadrini, Math Consultant – YCDS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lley Yearley, Math Consultant – TLDS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Program:  Usefu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376360" y="1700280"/>
            <a:ext cx="38293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Welcome Session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&amp; Intro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on for Math CAMPPP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 CAMPPP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king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S CAMPPP Wiki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lossary – Frayer Models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31640" y="1925640"/>
            <a:ext cx="8256600" cy="47433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Attendance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ion in all sessions is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Kaye Appleby in the event of an unanticipated ab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Networki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y for campppers to get to know one another and engage in informal focused 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eas avail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ond floor common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rooms 2 and 3 in Bayview will be the social gathering space. Each evening around 8:30 p.m. snacks and ice will be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on space in Mardon Lo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7280" y="7621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Housekee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1952640"/>
            <a:ext cx="82296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od aller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th CAMPPP memory sti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ense claims –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Video and artefact permission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king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Arial"/>
              </a:rPr>
              <a:t>Kempenfelt Conference Centre – phone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Parking Lo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720880" y="2205000"/>
            <a:ext cx="3614760" cy="38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87280" y="7621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CAMPPP 2010 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5910480" cy="2060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456000" y="4005360"/>
            <a:ext cx="550872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gains-camppp.wikispaces.com/CAMPPP+2010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008000" y="3970440"/>
            <a:ext cx="237672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16000" y="4689360"/>
            <a:ext cx="86868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d469b"/>
                </a:solidFill>
                <a:latin typeface="Arial"/>
                <a:ea typeface="Arial"/>
              </a:rPr>
              <a:t>Enjoy Math CAMPPP!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3640" y="1628640"/>
            <a:ext cx="7093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We all need someone who inspires us to do better than we know h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A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987640" y="3122640"/>
            <a:ext cx="3205080" cy="3619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6000" y="219852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earless Speaking and 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3080" y="1430280"/>
            <a:ext cx="183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sponding to Provide Appropriate Scaffolding and Challe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43120" y="9619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Questioning to Evoke and Expose Thin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27280" y="4167360"/>
            <a:ext cx="21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Establishing Math Talk Learning Comm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51280" y="495936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Assessment for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2583000"/>
            <a:ext cx="26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Differentiated Instruction through Questio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68720" y="4851360"/>
            <a:ext cx="162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Effective Uses of Manipulatives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95640" y="3446640"/>
            <a:ext cx="30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Teaching through the Mathematical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5672160"/>
            <a:ext cx="20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Consistency and Alignment of Assessments of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5294160"/>
            <a:ext cx="164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ff"/>
                </a:solidFill>
                <a:latin typeface="Arial"/>
              </a:rPr>
              <a:t>Building Networks Within and Across Bo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56360" y="5211720"/>
            <a:ext cx="2051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ff"/>
                </a:solidFill>
                <a:latin typeface="Arial"/>
              </a:rPr>
              <a:t>Engaging in Reflective Practice through Collaborative Learning and Co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153504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Deepening Understanding of Pedagogical Content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2060640"/>
            <a:ext cx="144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Focusing on Important Mathema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92360" y="2276640"/>
            <a:ext cx="3995640" cy="450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68720" y="873000"/>
            <a:ext cx="28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Big Ideas Relevant to Proportional Reasoning, K-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7920"/>
            <a:ext cx="644364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69b"/>
                </a:solidFill>
                <a:latin typeface="Arial"/>
                <a:ea typeface="Arial"/>
              </a:rPr>
              <a:t>Vision for Math CAMPPP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14920" y="2097000"/>
            <a:ext cx="169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Teaching for Conceptual Understa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657360"/>
            <a:ext cx="5616720" cy="6167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0" y="9111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430440" y="1052640"/>
            <a:ext cx="3919680" cy="53226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Goals for Math CAMPPP 2009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leave CAMPPP know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practise the following in a safe environ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leave CAMPPP believing th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469b"/>
                </a:solidFill>
                <a:latin typeface="Arial"/>
              </a:rPr>
              <a:t>Big Ideas for Number and Other Relevant Big Ideas</a:t>
            </a:r>
            <a:endParaRPr b="0" lang="en-US" sz="40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771640" y="2016000"/>
            <a:ext cx="3645000" cy="46166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Program: 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26920" y="1881360"/>
          <a:ext cx="357984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81360"/>
                    <a:ext cx="357984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43280" y="1881360"/>
            <a:ext cx="36226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TIPS 2.0 and PPQ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1773360"/>
            <a:ext cx="3897360" cy="4824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751280" y="1736640"/>
            <a:ext cx="3826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  <a:ea typeface="Arial"/>
              </a:rPr>
              <a:t>Program:  S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916280"/>
            <a:ext cx="8388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enary Session Description &amp; Speaker B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king the Big Ideas Relevant to Proportional Reasoning Meaningful to All of Our Stud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09:47Z</dcterms:created>
  <dc:creator>PSteele</dc:creator>
  <dc:description/>
  <dc:language>en-US</dc:language>
  <cp:lastModifiedBy>Information Systems</cp:lastModifiedBy>
  <dcterms:modified xsi:type="dcterms:W3CDTF">2010-08-13T17:38:48Z</dcterms:modified>
  <cp:revision>131</cp:revision>
  <dc:subject/>
  <dc:title>Slide 1</dc:title>
</cp:coreProperties>
</file>